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C47D-9983-4B0D-B727-59B27D1E4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0425-07C4-41CA-8EB3-94A5D862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3F17-E27F-4747-A395-279E21F14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88E3-FAD1-4C0F-BB5F-FAA2CF789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E4DD-02C7-4238-8470-8C1FC9D7F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0FF8-7B49-4D9D-BEFC-202211CC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A262-E296-4A3A-A028-82914E41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95F2-A37D-4ACF-94EE-BBFFD93D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67572-895F-4CB6-8449-879701D1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0C0A-FB69-43E7-84FE-D7E35659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01C5-DA6A-433C-9628-ECCBDA5E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4B23-73C3-44D7-8053-7ACEB537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B930-AC20-4A2F-92D4-4E6AA6FC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BFCF9-C6B3-44EE-9D76-BA7A05AE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A955-971A-4DC9-BEBD-6EAC7C76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F4713-F20A-46D4-8759-C0EE7A875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9FD4-03E8-4F2B-B6D3-58BF11630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EF42-8565-4481-A67E-5398D84A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1D26-2DAB-44DE-BEFC-B26B52FB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C5AA-6DA7-4146-8FCF-74B7F6B7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4834-02D1-4CF2-A64E-DE297DD7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8FCD-AA72-4477-ADF8-9F6F9B00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E8E5-055A-44FB-AA07-98F7620F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15FE-FDFC-4756-AB41-826F0EBD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4173-D029-4738-A3C3-8CF9C8B3374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62864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2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B3B4-C46C-4A76-9BAB-996DD149548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971800" y="5410080"/>
            <a:ext cx="4952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ndy Day</a:t>
            </a:r>
            <a:br>
              <a:rPr sz="2800"/>
            </a:b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HealthLink, Health Systems Trust, SA</a:t>
            </a:r>
            <a:br>
              <a:rPr sz="1600"/>
            </a:b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990720" y="91404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The Value of Information: 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The HealthLink experience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001000" y="5105520"/>
            <a:ext cx="88884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Information AND communication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separab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ed effective channels of communic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mprehensive interven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ependent on: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chnolog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rain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ndar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wering barri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Ensuring value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nd out what people WANT and NE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imulating awarenes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tegrating into interven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cally releva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ponsive to chan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Value and Cost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fficult to evalua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igh cost need to prove high valu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wer cost may reach further, lower risk, scalab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mail vs internet/video-conferenc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istserv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ccess to basic resourc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Types of information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b resul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er-to-peer consult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ws, publications, research results, even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rug information, bibliographic servic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Journa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ministrative and management func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tance learn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Rural doctors list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snake identification after bite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5" name="isipirijanisnake" descr=""/>
          <p:cNvPicPr/>
          <p:nvPr/>
        </p:nvPicPr>
        <p:blipFill>
          <a:blip r:embed="rId1"/>
          <a:srcRect l="14581" t="20835" r="18750" b="40283"/>
          <a:stretch/>
        </p:blipFill>
        <p:spPr>
          <a:xfrm>
            <a:off x="0" y="2133720"/>
            <a:ext cx="914400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Improving value through: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pen cont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mproved information retrieval technolog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Rural doctors list (mailadoc)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Just a short note to introduce ourselves to list members. We are a group of 10 rural doctors working in a 450 bed hospital in rural zululand. We have been using various electronic medical resources for a while now and are very excited about the possibilities of mailadoc. Our strengths probably lie mostly in medicine / infectious diseases but we would be happy to contribute / receive information in any area, clinical or otherwise. We are currently editing the last edition of our hospital protocols which we have attempted to make as evidence-based yet appropriate as possible to the rural setting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ooking forward to finally connecting with other rural doctors on a regular basis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8T23:43:46Z</dcterms:created>
  <dc:creator>Candy</dc:creator>
  <dc:description/>
  <dc:language>en-US</dc:language>
  <cp:lastModifiedBy>Candy</cp:lastModifiedBy>
  <dcterms:modified xsi:type="dcterms:W3CDTF">2001-06-16T14:31:19Z</dcterms:modified>
  <cp:revision>86</cp:revision>
  <dc:subject/>
  <dc:title>PowerPoint Presentation</dc:title>
</cp:coreProperties>
</file>