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DD8-1D13-4C2F-BE37-6DF83658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DD6-7F61-43D5-9BBB-EEE27AD1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5CE-80EB-4390-8E53-B09FB3AC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208-5A86-4862-A305-0BE04386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B601-990F-451E-9056-D6B1DF39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684-F787-4895-867A-9319880E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C6D-F6EE-4D61-8DC7-313FDA41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95D-A140-40E8-97C5-FEC9FF9F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A010-63E4-4966-8753-8C58DB76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C684-B21B-41DC-BE92-42AE79E7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6453-1DD1-443A-A6D2-28B6811B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4A1-0359-4F37-8A9B-CB49AECC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1800-6E2E-4C23-90A3-1D51B8F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DA9A-1C1F-462A-95F1-2CCB8C73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549F-B45B-40B1-901A-F5E96F9B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815E-11C6-4C8A-B0F9-73E7830F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72B8-B7E9-47B9-8002-33650719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576-458B-494D-B22C-A7DB5AD6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948-BD6B-4332-BC8D-C8574E7B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CE2-D2BC-44A0-B7A8-18C6528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ABA-A04D-4E75-81E3-62F6E380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164-C953-49BE-B76C-E8F8F83A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824-B4F1-4F54-B6AC-85E3CDB9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A6B-FBEE-4CBD-B5AB-63AA949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CTs for Sustainable Developmen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2209680"/>
            <a:ext cx="563868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bjectives and deliverabl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46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source requirem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itfa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360" y="33670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7120" y="664056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ources Required: Huma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Key management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ment from at least some sr.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ership within MM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management” sk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ources Required: Technologic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Typical technology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computers and mod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ledgeable support services (Apple vs. Compaq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rces for an array of equipmen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rastructure (electricity, phone lin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Services (ISP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ources Required: Financial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The project does not control key financial resour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equate salaries for trained sta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fficient resources to procure and update equipment in the long-te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support for equipment in delivery ce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mpact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MMCE has survived and been success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ers skills that DOH valu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proved print communic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 quality design and production capac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develop good quality CD-RO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earn new technologies and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tfall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Most pitfalls relate to time constra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ze differences in “level of quality”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rolling out the CD-ROMs after policy or political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sson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D-ROMs can have a role, when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nd consistency are cru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 of classroom training is hi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room training is not fea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anagement and dissemination system can be establish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sson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800" y="24379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Success fac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tain support from “near the top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internal leadershi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a strong, confident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lent can substitute for background experi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sson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Success factors, </a:t>
            </a:r>
            <a:r>
              <a:rPr b="1" i="1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continu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 strong relationshi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prepared for conflict between international and local expe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the basic, ongoing value pro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sure strong skills in “low tech” communication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rustrations Without Lesson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Knowing the lesson        Bringing about chang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talk cooperation but walk in iso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tical shifts can scuttle long-term p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xy technology trumps sensible techn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 ADD limits management and dissemination systems roll-o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648320" y="2305080"/>
            <a:ext cx="380520" cy="95040"/>
            <a:chOff x="4648320" y="2305080"/>
            <a:chExt cx="380520" cy="95040"/>
          </a:xfrm>
        </p:grpSpPr>
        <p:sp>
          <p:nvSpPr>
            <p:cNvPr id="145" name=""/>
            <p:cNvSpPr/>
            <p:nvPr/>
          </p:nvSpPr>
          <p:spPr>
            <a:xfrm>
              <a:off x="4648320" y="2400120"/>
              <a:ext cx="380520" cy="0"/>
            </a:xfrm>
            <a:prstGeom prst="line">
              <a:avLst/>
            </a:prstGeom>
            <a:ln cap="sq"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48320" y="2305080"/>
              <a:ext cx="380520" cy="0"/>
            </a:xfrm>
            <a:prstGeom prst="line">
              <a:avLst/>
            </a:prstGeom>
            <a:ln cap="sq" w="41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4724280" y="2133720"/>
            <a:ext cx="217440" cy="380880"/>
          </a:xfrm>
          <a:prstGeom prst="line">
            <a:avLst/>
          </a:prstGeom>
          <a:ln cap="sq"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8400" y="762120"/>
            <a:ext cx="74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media Training in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edc%20shows%20doh%20folks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248520" cy="4267080"/>
          </a:xfrm>
          <a:prstGeom prst="rect">
            <a:avLst/>
          </a:prstGeom>
          <a:ln w="0">
            <a:noFill/>
          </a:ln>
        </p:spPr>
      </p:pic>
      <p:pic>
        <p:nvPicPr>
          <p:cNvPr id="94" name="cover1" descr=""/>
          <p:cNvPicPr/>
          <p:nvPr/>
        </p:nvPicPr>
        <p:blipFill>
          <a:blip r:embed="rId2"/>
          <a:stretch/>
        </p:blipFill>
        <p:spPr>
          <a:xfrm>
            <a:off x="6172200" y="41911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86640" y="6553080"/>
            <a:ext cx="300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OH Multimedia Center of Excellenc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1080" y="2057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1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Objecti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200" indent="-3312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Multimedia Cen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200" indent="-3312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 DOH staf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200" indent="-33120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two CD-RO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282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amily Planning Counsel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28296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reen blood for HIV/AI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1200" indent="-331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mulate a business pla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1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liverables: Create a Center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6858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We’re trainers, not contractor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gan with a concrete sh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t the entire center, with all fac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liverables: Two CD-ROM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“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Protecting Our Blood Supply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s ensure quality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trainees with differing skill lev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n effective training vehic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s training r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s the cost of tra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liverables: Two CD-ROM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4760" y="21337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“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Family Planning Counseling for Couples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s multiple audi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effective for novice ICT users -- and they enjoy using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s training r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blishes consist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liverables: Train DOH Staff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reated a multi-skilled MMCE tea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o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phic design for print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create multimedia CD-RO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ment skil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liverables: A Business Pla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20574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Value was psychological vs. financi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monstrated that the MMCE could spin off successfu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lled confid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cited respect from senior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d knowledge of “the competition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ources Required: Huma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5120" y="21337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Key MMCE technical staff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nate talent and intellig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work as a team mem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expert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45560" y="6477120"/>
            <a:ext cx="300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Education Development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3:45:34Z</dcterms:created>
  <dc:creator>Aztec Rental</dc:creator>
  <dc:description/>
  <dc:language>en-US</dc:language>
  <cp:lastModifiedBy>Janice Brodman</cp:lastModifiedBy>
  <cp:lastPrinted>2000-04-24T22:27:51Z</cp:lastPrinted>
  <dcterms:modified xsi:type="dcterms:W3CDTF">2001-06-18T00:15:35Z</dcterms:modified>
  <cp:revision>338</cp:revision>
  <dc:subject/>
  <dc:title>Role of GKP</dc:title>
</cp:coreProperties>
</file>