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B6D-E3C0-47FC-A9A8-548FF3BF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769-55FC-430C-BB72-A480D7A5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5F3-ADFF-4A64-951F-7D8EA111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278-977B-48AD-8437-9093C2A8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9F6D-472E-4AC9-8539-FB235703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7416-3FB1-4FC6-A374-B78A4E9D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F30-BCC6-4C3E-AAEF-384D6EA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1894-3518-480C-925D-1AD9C590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FA5F-0497-43AB-98EB-98214E9F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A328-F348-4FF3-9292-70A4CBC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E5A-65D6-430C-9E72-BF2C69B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D6F-29B1-4D14-8EF1-3653AF38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6812-DBE0-4225-86D5-B24EBA22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6E6D-793C-46B1-A625-CB9DC4C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57DE-1587-4131-9C90-8311D837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DFE-43D1-4E23-B756-8B919A92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D39-54DD-4223-99CD-D349B184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BBC-152E-46E1-94C6-9F305D1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A1F-426B-43F7-AF19-AA067FC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426-3EF5-4DB7-B0A9-E53CD58D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ECA-672A-49A0-98CB-6BB5B4E7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6F4-9AF9-4329-9349-959CEA3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7A9-3071-4DAB-91F8-73A27C6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423-B1E1-4D71-97A4-120C4BC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8791-61BA-4446-A146-A74904BCFB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A33F-B94D-4585-868E-C57E080F6D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s Anybody Out The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essing the Global Audience for Health Care Web Si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izabeth Gummerson, Center for International Development at Harvard Univer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5040" y="380880"/>
            <a:ext cx="735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Development sites better tailored to low resour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d multiple language environments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3578400"/>
          <a:ext cx="44956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78400"/>
                    <a:ext cx="44956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419720" y="3048120"/>
          <a:ext cx="457200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048120"/>
                    <a:ext cx="4572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143000" y="2590920"/>
            <a:ext cx="278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ercent of Sites with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Text-only O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Times New Roman"/>
              </a:rPr>
              <a:t>(n=18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91880" y="2590920"/>
            <a:ext cx="3555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ercent of Sites with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ultiple Language O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Times New Roman"/>
              </a:rPr>
              <a:t>(n=18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46840" y="8794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Answers to question 1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286000"/>
            <a:ext cx="61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re development health sites designed in a way that is accessible to users in developing nat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58128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Uptime is comparable across all catego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cal sites home pages slightly larger in by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All three categories offer java and plug-in free ver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Development sites offer more for low resource and multiple language us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LUSION : development sites do not suffer major drawbacks in accessibil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68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61720" y="8794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Question #2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2666880"/>
            <a:ext cx="61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re development health web sites actually be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ccessed by users in developing nation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038480"/>
            <a:ext cx="47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urveyed webmasters of health sit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sking for user session dat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69320" y="5029200"/>
            <a:ext cx="59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Total user se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Top countries by user sess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Percentage distribution by developing nation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dustrial nations, LDCs and unknown ori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124080"/>
            <a:ext cx="68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____________________________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447920" y="2438280"/>
          <a:ext cx="60973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438280"/>
                    <a:ext cx="60973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96080" y="99072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Total User Sessions- March 2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03080" y="575136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Times New Roman"/>
              </a:rPr>
              <a:t>(n=4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838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480" y="914400"/>
          <a:ext cx="9083520" cy="56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914400"/>
                    <a:ext cx="908352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2819520" y="228600"/>
            <a:ext cx="32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25 Top Visito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1523880"/>
            <a:ext cx="4851360" cy="2917440"/>
            <a:chOff x="0" y="1523880"/>
            <a:chExt cx="4851360" cy="2917440"/>
          </a:xfrm>
        </p:grpSpPr>
        <p:graphicFrame>
          <p:nvGraphicFramePr>
            <p:cNvPr id="168" name=""/>
            <p:cNvGraphicFramePr/>
            <p:nvPr/>
          </p:nvGraphicFramePr>
          <p:xfrm>
            <a:off x="0" y="1600200"/>
            <a:ext cx="4851360" cy="280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00200"/>
                      <a:ext cx="4851360" cy="28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1676880" y="1523880"/>
              <a:ext cx="20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eveloping Nations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2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3040" y="379872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Unknown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40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680" y="3798720"/>
              <a:ext cx="18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Industrial Nation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58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990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General Health Sites 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1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9520" y="22860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Where are User Sessions Originat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1523880"/>
            <a:ext cx="4851360" cy="2917440"/>
            <a:chOff x="0" y="1523880"/>
            <a:chExt cx="4851360" cy="2917440"/>
          </a:xfrm>
        </p:grpSpPr>
        <p:graphicFrame>
          <p:nvGraphicFramePr>
            <p:cNvPr id="176" name=""/>
            <p:cNvGraphicFramePr/>
            <p:nvPr/>
          </p:nvGraphicFramePr>
          <p:xfrm>
            <a:off x="0" y="1600200"/>
            <a:ext cx="4851360" cy="280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600200"/>
                      <a:ext cx="4851360" cy="28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1676880" y="1523880"/>
              <a:ext cx="20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eveloping Nations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2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3040" y="379872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Unknown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40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62680" y="3798720"/>
              <a:ext cx="18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Industrial Nation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58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85800" y="9907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General Health Sites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1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9520" y="22860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Where are User Sessions Originat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452840" y="914400"/>
          <a:ext cx="4691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2840" y="914400"/>
                    <a:ext cx="4691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096240" y="15238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ing Nation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3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315560" y="38862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dustrial Na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57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2760" y="38098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4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7480" y="99072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Global Development Sites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1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143000"/>
            <a:ext cx="4851360" cy="2917440"/>
            <a:chOff x="0" y="1143000"/>
            <a:chExt cx="4851360" cy="2917440"/>
          </a:xfrm>
        </p:grpSpPr>
        <p:graphicFrame>
          <p:nvGraphicFramePr>
            <p:cNvPr id="190" name=""/>
            <p:cNvGraphicFramePr/>
            <p:nvPr/>
          </p:nvGraphicFramePr>
          <p:xfrm>
            <a:off x="0" y="1219320"/>
            <a:ext cx="4851360" cy="2803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19320"/>
                      <a:ext cx="4851360" cy="280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2" name=""/>
            <p:cNvSpPr/>
            <p:nvPr/>
          </p:nvSpPr>
          <p:spPr>
            <a:xfrm>
              <a:off x="1676880" y="1143000"/>
              <a:ext cx="201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Developing Nations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2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3040" y="3417840"/>
              <a:ext cx="10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Unknown</a:t>
              </a:r>
              <a:br>
                <a:rPr sz="1800"/>
              </a:b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40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62680" y="3417840"/>
              <a:ext cx="18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Industrial Nation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imes New Roman"/>
                </a:rPr>
                <a:t>58%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33520" y="685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General Health Sites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1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9520" y="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Where are User Sessions Originat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452840" y="457200"/>
          <a:ext cx="469116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2840" y="457200"/>
                    <a:ext cx="4691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778360" y="68580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Global Development Sites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12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6240" y="10666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ing Nation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3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560" y="34290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dustrial Natio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57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2760" y="33526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4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447920" y="4191120"/>
          <a:ext cx="5964120" cy="32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191120"/>
                    <a:ext cx="59641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09840" y="621648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Developing Nation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40840" y="6216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12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4648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dustrial Nations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78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38600" y="426708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Local Development Sites </a:t>
            </a: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95280" y="7621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6360" y="91440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Answer to Question #2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352680"/>
            <a:ext cx="74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35800" y="2819520"/>
            <a:ext cx="62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re development health web sites actually be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ccessed by users in developing nation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6560" y="4572000"/>
            <a:ext cx="82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LUSION: Development health sites do not to appear  to b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ny more successful than their non-development counterparts 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eaching audiences in the developing world. Loc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naged health sites may be an excep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Further Thoughts/Question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-health encompasses much more than health web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Why is usage of apparently useable sites so poor in developing countri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s content irrelevant?  Would it help to “focus group” content for developing country consumer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s connectivity poor?  How would the data look if normalized to total national bandwidth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s there simply less demand than we imagine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Deba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 is the fuel of medicine, and we have none. Year by year we are falling behind.”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octor in Timbukt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r priorities are hygiene, sanitation and safe drinking water. How is the internet going to help with that?”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Nurse in Kathmand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ank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9933"/>
                </a:solidFill>
                <a:latin typeface="Times New Roman"/>
              </a:rPr>
              <a:t>Thanks to Dr. Amir Attaran and  Tariq Mohammed for their contributions to this resear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30800" y="1015920"/>
            <a:ext cx="21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Study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631960"/>
            <a:ext cx="679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0680" y="3241800"/>
            <a:ext cx="58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800" y="3581280"/>
            <a:ext cx="81741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cc66"/>
                </a:solidFill>
                <a:latin typeface="Times New Roman"/>
              </a:rPr>
              <a:t>Development Health Site-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 A  web site that address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health issues that are widely or over represented in under develop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Countries. The site should provide tools or information regarding 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edical care, donors, epidemiology, health care policy and economics,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or other information expressly relevant to health care and development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90920" y="2057400"/>
            <a:ext cx="281916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200 Health Web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600" y="3352680"/>
            <a:ext cx="299412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00 Non-developmen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ealth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Gener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2433600" cy="1557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00 Development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ealth Si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15080" y="5257800"/>
            <a:ext cx="298656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tes Hosted in Europ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S or Can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Development-Glob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71240" y="5257800"/>
            <a:ext cx="3114360" cy="1191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tes Hosted Locally 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eveloping Na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Development-Loc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81120" y="4572000"/>
            <a:ext cx="38124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4572000"/>
            <a:ext cx="30456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429000" y="2895480"/>
            <a:ext cx="53352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895480"/>
            <a:ext cx="38088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97520" y="93996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Study Design Cont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90400" y="101592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Study Ques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2631960"/>
            <a:ext cx="679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720" y="4952880"/>
            <a:ext cx="830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S IT USED?  Are development health web sites actually be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ccessed by users in developing nations 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60680" y="3241800"/>
            <a:ext cx="58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080" y="3276720"/>
            <a:ext cx="91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S IT USEABLE? Are development health sites designed in a way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s accessible to users in developing nat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7621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83880" y="2514600"/>
            <a:ext cx="65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re development health sites designed in a way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is accessible to users in developing nat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3434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ze in Byt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ptim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Java and Plug-i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rowser requirement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ext-only version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ultiple languag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0120" y="3809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Times New Roman"/>
              </a:rPr>
              <a:t>Criteria Evaluate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1015920"/>
            <a:ext cx="20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Question #1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971800"/>
            <a:ext cx="74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533520"/>
            <a:ext cx="504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No differences in website uptim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But locally hosted sites large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-152280" y="2936880"/>
          <a:ext cx="495288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936880"/>
                    <a:ext cx="495288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82600" y="2514600"/>
            <a:ext cx="22989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ercent Uptim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(n=18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31520" y="4527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7.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87000">
            <a:off x="1569960" y="4527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8.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078800">
            <a:off x="2406600" y="4527000"/>
            <a:ext cx="5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5.8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343400" y="3048120"/>
          <a:ext cx="516240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048120"/>
                    <a:ext cx="5162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867280" y="2209680"/>
            <a:ext cx="278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verage Size of Home Page in By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(n=18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47400">
            <a:off x="5417280" y="5098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7,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256080" y="50986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,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31800">
            <a:off x="7146720" y="466344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6,00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457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Development  sites support lower version web brows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312408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150640" y="2438280"/>
            <a:ext cx="423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inimum Browsers Suppor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(n=4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45720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Both development and general health sites offer simplified vers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2160" y="2362320"/>
            <a:ext cx="452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ercent offering simplified versio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No Java, No Plug-in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Times New Roman"/>
              </a:rPr>
              <a:t>(n=4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09840" y="3352680"/>
          <a:ext cx="557676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3352680"/>
                    <a:ext cx="557676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8:24:49Z</dcterms:created>
  <dc:creator>spiccicuto</dc:creator>
  <dc:description/>
  <dc:language>en-US</dc:language>
  <cp:lastModifiedBy>Elizabeth Anne Gummerson</cp:lastModifiedBy>
  <cp:lastPrinted>2001-06-15T21:09:43Z</cp:lastPrinted>
  <dcterms:modified xsi:type="dcterms:W3CDTF">2001-06-18T16:07:44Z</dcterms:modified>
  <cp:revision>51</cp:revision>
  <dc:subject/>
  <dc:title>Is anybody out there?</dc:title>
</cp:coreProperties>
</file>